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091"/>
        <c:axId val="57430144"/>
      </c:barChart>
      <c:catAx>
        <c:axId val="495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30144"/>
        <c:crosses val="autoZero"/>
        <c:auto val="1"/>
        <c:lblAlgn val="ctr"/>
        <c:lblOffset val="100"/>
        <c:noMultiLvlLbl val="0"/>
      </c:catAx>
      <c:valAx>
        <c:axId val="57430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573-3027-4D7E-9AAD-01671A7F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C38-FDA8-4F00-86EE-03D2FE56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C71-7CA8-4F68-93B8-56E6253B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153-A09E-49D8-BB0F-28D3812E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CA6-AA2E-4A19-A473-1BE9A62B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139-D333-4453-9D2F-118EC64C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5EB-5624-44AF-88B1-BF7617A7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A50-01FD-40D6-B633-56037BFB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1E5-9298-4AB9-847E-ED1C0B4B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E03-1DAD-4784-B65B-3FB3A0E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A57-3EC6-490B-8A4D-B81314F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B65-F5C7-47A6-B02C-40D2C477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FC3BB-0EF2-442B-A4B2-070C283318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